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935-0C97-416F-A3DC-AD0D2229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278-BED1-47DC-9D0A-7C0EEDFB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568-6F9D-4CFE-9C07-F797DB0B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A43-97FE-4E2C-B54E-99CDD278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19C-8FF6-44CE-8C0B-3E3AC696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0D1-6711-49BF-97A8-A11E2678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9F4-BCC9-4A89-853F-D026C1A7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318-1831-4C97-9F40-725ED361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817-7B15-441D-8A2F-53BD704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973-0AC7-4685-B957-906E9BF7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91A-4642-49C0-86D0-A646A5F0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E27-4C42-4CB6-B2B1-26E39DD9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9BC3-329C-4EB7-8798-8E195B875CA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kbsapr.r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718320" y="6029280"/>
            <a:ext cx="1763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осква,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-112680"/>
            <a:ext cx="5915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Arial"/>
              </a:rPr>
              <a:t>ОКБ САП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90520" y="5992920"/>
            <a:ext cx="61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  <a:ea typeface="Arial"/>
              </a:rPr>
              <a:t>Если Вам есть что скрывать</a:t>
            </a:r>
            <a:r>
              <a:rPr b="1" lang="en-US" sz="2400" spc="-1" strike="noStrike">
                <a:solidFill>
                  <a:srgbClr val="cc3300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251400" y="142920"/>
            <a:ext cx="304812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3300"/>
                </a:solidFill>
                <a:uFillTx/>
                <a:latin typeface="Verdana"/>
                <a:ea typeface="Arial"/>
                <a:hlinkClick r:id="rId1"/>
              </a:rPr>
              <a:t>www.okbsapr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kbsapr@okbsapr.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5" descr="zastavka"/>
          <p:cNvPicPr/>
          <p:nvPr/>
        </p:nvPicPr>
        <p:blipFill>
          <a:blip r:embed="rId2"/>
          <a:stretch/>
        </p:blipFill>
        <p:spPr>
          <a:xfrm>
            <a:off x="0" y="722160"/>
            <a:ext cx="9144000" cy="616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71480" y="255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82600" y="404640"/>
            <a:ext cx="886140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  <a:ea typeface="Arial"/>
              </a:rPr>
              <a:t>Надежность в ненадежном мире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Рисунок 68" descr="ACCORD5MX.tif"/>
          <p:cNvPicPr/>
          <p:nvPr/>
        </p:nvPicPr>
        <p:blipFill>
          <a:blip r:embed="rId1"/>
          <a:stretch/>
        </p:blipFill>
        <p:spPr>
          <a:xfrm>
            <a:off x="469800" y="1658880"/>
            <a:ext cx="3165480" cy="23781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0" descr="SAPR_GX.tif"/>
          <p:cNvPicPr/>
          <p:nvPr/>
        </p:nvPicPr>
        <p:blipFill>
          <a:blip r:embed="rId2"/>
          <a:stretch/>
        </p:blipFill>
        <p:spPr>
          <a:xfrm>
            <a:off x="3745080" y="1762200"/>
            <a:ext cx="3027240" cy="1993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4" descr="SAPR_GXM.tif"/>
          <p:cNvPicPr/>
          <p:nvPr/>
        </p:nvPicPr>
        <p:blipFill>
          <a:blip r:embed="rId3"/>
          <a:stretch/>
        </p:blipFill>
        <p:spPr>
          <a:xfrm>
            <a:off x="6881760" y="2082960"/>
            <a:ext cx="2094120" cy="1530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5" descr="SAPR_GXMH.tif"/>
          <p:cNvPicPr/>
          <p:nvPr/>
        </p:nvPicPr>
        <p:blipFill>
          <a:blip r:embed="rId4"/>
          <a:stretch/>
        </p:blipFill>
        <p:spPr>
          <a:xfrm>
            <a:off x="1109520" y="4336920"/>
            <a:ext cx="1501920" cy="1470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7" descr="sapr_enough.tif"/>
          <p:cNvPicPr/>
          <p:nvPr/>
        </p:nvPicPr>
        <p:blipFill>
          <a:blip r:embed="rId5"/>
          <a:srcRect l="9906" t="22304" r="12945" b="14244"/>
          <a:stretch/>
        </p:blipFill>
        <p:spPr>
          <a:xfrm>
            <a:off x="3297240" y="4589640"/>
            <a:ext cx="176544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1371600" y="1913040"/>
            <a:ext cx="18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CI-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4459320" y="1488960"/>
            <a:ext cx="18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CI-Exp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6772320" y="1860480"/>
            <a:ext cx="20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 PCI-Exp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77760" y="5938920"/>
            <a:ext cx="28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 PCI-Express half ca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3238560" y="5938920"/>
            <a:ext cx="18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6156360" y="5880240"/>
            <a:ext cx="18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Рисунок 2" descr=""/>
          <p:cNvPicPr/>
          <p:nvPr/>
        </p:nvPicPr>
        <p:blipFill>
          <a:blip r:embed="rId6"/>
          <a:stretch/>
        </p:blipFill>
        <p:spPr>
          <a:xfrm>
            <a:off x="7209000" y="4648320"/>
            <a:ext cx="166212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"/>
          <p:cNvPicPr/>
          <p:nvPr/>
        </p:nvPicPr>
        <p:blipFill>
          <a:blip r:embed="rId7"/>
          <a:stretch/>
        </p:blipFill>
        <p:spPr>
          <a:xfrm>
            <a:off x="5400720" y="4700520"/>
            <a:ext cx="1784160" cy="11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902040" y="2637000"/>
            <a:ext cx="4903920" cy="3913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463680" y="250920"/>
            <a:ext cx="8229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Arial"/>
                <a:ea typeface="Arial"/>
              </a:rPr>
              <a:t>Почему защита должна быть аппаратной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74560" y="1743120"/>
            <a:ext cx="37418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Как обеспечить целостность программы, обеспечивающей целостность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Еще одной программой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А ее целостность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Еще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6440" y="5061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3800" spc="-1" strike="noStrike">
                <a:solidFill>
                  <a:srgbClr val="cc3300"/>
                </a:solidFill>
                <a:latin typeface="Arial"/>
              </a:rPr>
              <a:t>Каким должно быть средство защиты от НСД?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24040" y="2149560"/>
            <a:ext cx="763416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buClr>
                <a:srgbClr val="cc3300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независимы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от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операционной и файловой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истемы П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99"/>
              </a:spcAft>
              <a:buClr>
                <a:srgbClr val="cc3300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99"/>
              </a:spcAft>
              <a:buClr>
                <a:srgbClr val="cc3300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недоступны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для внесения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змен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99"/>
              </a:spcAft>
              <a:buClr>
                <a:srgbClr val="cc3300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99"/>
              </a:spcAft>
              <a:buClr>
                <a:srgbClr val="cc3300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аппаратны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buClr>
                <a:srgbClr val="cc3300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24" descr=""/>
          <p:cNvPicPr/>
          <p:nvPr/>
        </p:nvPicPr>
        <p:blipFill>
          <a:blip r:embed="rId1"/>
          <a:stretch/>
        </p:blipFill>
        <p:spPr>
          <a:xfrm>
            <a:off x="1521000" y="658800"/>
            <a:ext cx="5759280" cy="5761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177560" y="158760"/>
            <a:ext cx="469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Базис: доверенная загруз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671400" y="3457440"/>
            <a:ext cx="7989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spcAft>
                <a:spcPts val="601"/>
              </a:spcAft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ьзователь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менно то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который имеет право работать на данном компьютер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999"/>
              </a:spcBef>
              <a:spcAft>
                <a:spcPts val="451"/>
              </a:spcAft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мпьютер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менно то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на котором имеет право работать данный пользовате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6600" y="2019240"/>
            <a:ext cx="803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игается обеспечением 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  <a:ea typeface="Arial"/>
              </a:rPr>
              <a:t>режима доверенной загрузки ОС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при котором подтверждено, чт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82600" y="531720"/>
            <a:ext cx="8623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cc3300"/>
                </a:solidFill>
                <a:latin typeface="Verdana"/>
                <a:ea typeface="Arial"/>
              </a:rPr>
              <a:t>Защищенность </a:t>
            </a:r>
            <a:br>
              <a:rPr sz="3800"/>
            </a:br>
            <a:r>
              <a:rPr b="1" lang="ru-RU" sz="3800" spc="-1" strike="noStrike">
                <a:solidFill>
                  <a:srgbClr val="cc3300"/>
                </a:solidFill>
                <a:latin typeface="Verdana"/>
                <a:ea typeface="Arial"/>
              </a:rPr>
              <a:t>компьютера от НСД</a:t>
            </a:r>
            <a:r>
              <a:rPr b="1" lang="ru-RU" sz="4400" spc="-1" strike="noStrike">
                <a:solidFill>
                  <a:srgbClr val="cc3300"/>
                </a:solidFill>
                <a:latin typeface="Verdana"/>
                <a:ea typeface="Arial"/>
              </a:rPr>
              <a:t> </a:t>
            </a:r>
            <a:r>
              <a:rPr b="1" lang="ru-RU" sz="3800" spc="-1" strike="noStrike">
                <a:solidFill>
                  <a:srgbClr val="cc3300"/>
                </a:solidFill>
                <a:latin typeface="Verdana"/>
                <a:ea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5320" y="6170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  <a:ea typeface="Arial"/>
              </a:rPr>
              <a:t>Аккорд-АМДЗ. Доверенная загрузка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1024" descr=""/>
          <p:cNvPicPr/>
          <p:nvPr/>
        </p:nvPicPr>
        <p:blipFill>
          <a:blip r:embed="rId1"/>
          <a:stretch/>
        </p:blipFill>
        <p:spPr>
          <a:xfrm>
            <a:off x="1974960" y="1847880"/>
            <a:ext cx="451476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5320" y="6170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  <a:ea typeface="Arial"/>
              </a:rPr>
              <a:t>Доверенная загрузка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24040" y="2936880"/>
            <a:ext cx="763416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buClr>
                <a:srgbClr val="cc3300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блокировка загрузки ОС с внешних носителей информ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Aft>
                <a:spcPts val="451"/>
              </a:spcAft>
              <a:buClr>
                <a:srgbClr val="cc3300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а целостности технических и программных средств ПК с использованием алгоритма пошагового контроля целост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buClr>
                <a:srgbClr val="cc3300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дентифика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аутентификация пользовате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06600" y="1994040"/>
            <a:ext cx="803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грузка ОС производится только 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  <a:ea typeface="Arial"/>
              </a:rPr>
              <a:t>посл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успешного завершения процедур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771480" y="255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82600" y="404640"/>
            <a:ext cx="886140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  <a:ea typeface="Arial"/>
              </a:rPr>
              <a:t>Надежность в ненадежном мире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2040" y="2811600"/>
            <a:ext cx="844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невозможность внесения изменений в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rmwar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невозможность сокрытия попытки НСД от администратора безопасности информ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возможность построения систем защиты информации на базе Аккорд-АМДЗ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10280" y="2017800"/>
            <a:ext cx="68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Архитектура Аккорд-АМДЗ обеспечива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5313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СЗИ от НСД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09560" y="1765440"/>
            <a:ext cx="763452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  <a:ea typeface="Arial"/>
              </a:rPr>
              <a:t>Стационарны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19280" y="2813040"/>
            <a:ext cx="76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а базе контроллеров АМДЗ семейства Аккор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63560" y="3992400"/>
            <a:ext cx="763416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  <a:ea typeface="Arial"/>
              </a:rPr>
              <a:t>Мобильны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14320" y="5110200"/>
            <a:ext cx="76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а базе контроллеров АМДЗ семейства Ина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6:46:51Z</dcterms:created>
  <dc:creator>Masha</dc:creator>
  <dc:description/>
  <dc:language>en-US</dc:language>
  <cp:lastModifiedBy>Admin</cp:lastModifiedBy>
  <dcterms:modified xsi:type="dcterms:W3CDTF">2016-04-21T07:34:20Z</dcterms:modified>
  <cp:revision>345</cp:revision>
  <dc:subject/>
  <dc:title>ПЕРСОНАЛЬНОЕ СКЗИ шипка-1.5</dc:title>
</cp:coreProperties>
</file>